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0B3-DAF1-498E-8C24-43355124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BAE-B2AB-4AC2-A1A9-7BFE9AD3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75B-4087-474A-BD30-67828CFE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1CE5-9FDC-44DA-A2D1-FFB87D25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428D-094C-4604-A791-12FEA897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EE32-6158-4BB9-9340-27243986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F584-17C9-4BD2-A358-9AC646E6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522F-E869-4D2C-8163-DA07E11C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82C4-087C-4EE3-89F6-BD49E924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858C-54E8-41E6-A71E-EA086C37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2890-6B00-4B7D-9286-2C7C1DAB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126-7054-47C7-B593-57A90028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1527-EE72-407D-B17A-251D4381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95C3-EF5C-4526-8B4E-88344800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734E-DFF5-43B7-95A3-6C4D14B0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2D89-F686-413D-9B7D-D38D45A4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73A4-7CA5-4D9A-AB9A-C810A78F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7A3-7FD1-4B98-A72E-CD4881F6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8B4-E8CD-4B31-AC5E-0044718A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7C5-AF54-4E72-8F90-B09375DB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9B1-C31E-4ED4-9DF5-E11BB1AD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BF72-D226-4EF0-B3A4-708F8215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AAA-660A-445F-9756-303F6042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1BD-035B-40B6-95A7-E43A51BB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AE3F-6E76-454C-AD64-597B9D35A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B4B5-F802-4F8E-A3EC-693437D35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wankclass.wikispace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Welcome to Mr. Swank’s Back to School Night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eptember 8, 200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ding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urpris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will always know what is expect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brics / Checklists used regular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room Webs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62012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swankclass.wikispaces.c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Rectangle 4" descr=""/>
          <p:cNvPicPr/>
          <p:nvPr/>
        </p:nvPicPr>
        <p:blipFill>
          <a:blip r:embed="rId2"/>
          <a:stretch/>
        </p:blipFill>
        <p:spPr>
          <a:xfrm>
            <a:off x="2438280" y="2362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room Websi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dated regularly by stud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 back for news, work samples, important dates, photos, and mor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room community is based on mutual 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for ot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for my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PECT for our sp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 C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st minus is a war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nus students write a letter hom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nus is an afternoon detention from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:30-4: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ith 3 pluses they earn a homework pa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 plus is earned by getting a 100% on a qui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y working towards their 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howing Improv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y going above and beyond what is expected behavior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sign up for a conference before you leave tonigh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etter will be sent home in November confirming your ti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line Safe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computers in a common ro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stand and monitor your child’s Internet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ve all strange mess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out 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3733920"/>
          </a:xfrm>
          <a:prstGeom prst="rect">
            <a:avLst/>
          </a:prstGeom>
          <a:solidFill>
            <a:srgbClr val="ffef66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year at Mill Cre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year in edu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gree in Elementary Education from Michigan State Univers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ster’s degree in Educational Leadership in progress at Arcadia University (May 2008!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out Me Continued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ried July 14, 200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weekends spent run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orts Fanatic (Go Spartans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4" descr="blart012"/>
          <p:cNvPicPr/>
          <p:nvPr/>
        </p:nvPicPr>
        <p:blipFill>
          <a:blip r:embed="rId1"/>
          <a:stretch/>
        </p:blipFill>
        <p:spPr>
          <a:xfrm>
            <a:off x="3505320" y="3651120"/>
            <a:ext cx="2523960" cy="1689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Lehigh Valley Marathon Relay 003"/>
          <p:cNvPicPr/>
          <p:nvPr/>
        </p:nvPicPr>
        <p:blipFill>
          <a:blip r:embed="rId2"/>
          <a:stretch/>
        </p:blipFill>
        <p:spPr>
          <a:xfrm>
            <a:off x="835200" y="3651120"/>
            <a:ext cx="1457280" cy="1689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001"/>
          <p:cNvPicPr/>
          <p:nvPr/>
        </p:nvPicPr>
        <p:blipFill>
          <a:blip r:embed="rId3"/>
          <a:stretch/>
        </p:blipFill>
        <p:spPr>
          <a:xfrm>
            <a:off x="7004160" y="3730680"/>
            <a:ext cx="11588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ecial Events in Sixth Gra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5053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llution Trip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ptember 18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pes Cours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ptember 24 and 25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alloween Howl: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ctober 27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ian Festiv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Janu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Grade Assessment: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ebruary 5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SA Test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rc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uddy Cla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wice a Mon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pes Course Tri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should dress for the weather.  We will go even if it is rain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check the Mill Creek Hot Line,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267-893-360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select option 6 for updated new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ease send a lunch and a snac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pes Course Trip Continu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od behavior will be stress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off and pick up will be as norm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opes Course Trip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6" descr="MVC-010S"/>
          <p:cNvPicPr/>
          <p:nvPr/>
        </p:nvPicPr>
        <p:blipFill>
          <a:blip r:embed="rId1"/>
          <a:stretch/>
        </p:blipFill>
        <p:spPr>
          <a:xfrm>
            <a:off x="603360" y="1974960"/>
            <a:ext cx="3633840" cy="2835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MVC-014S"/>
          <p:cNvPicPr/>
          <p:nvPr/>
        </p:nvPicPr>
        <p:blipFill>
          <a:blip r:embed="rId2"/>
          <a:stretch/>
        </p:blipFill>
        <p:spPr>
          <a:xfrm>
            <a:off x="4565520" y="3273480"/>
            <a:ext cx="3902040" cy="2755800"/>
          </a:xfrm>
          <a:prstGeom prst="rect">
            <a:avLst/>
          </a:prstGeom>
          <a:ln w="0">
            <a:noFill/>
          </a:ln>
        </p:spPr>
      </p:pic>
      <p:pic>
        <p:nvPicPr>
          <p:cNvPr id="169" name="Oval 6" descr=""/>
          <p:cNvPicPr/>
          <p:nvPr/>
        </p:nvPicPr>
        <p:blipFill>
          <a:blip r:embed="rId3"/>
          <a:stretch/>
        </p:blipFill>
        <p:spPr>
          <a:xfrm>
            <a:off x="6918480" y="4937040"/>
            <a:ext cx="1560240" cy="1103400"/>
          </a:xfrm>
          <a:prstGeom prst="rect">
            <a:avLst/>
          </a:prstGeom>
          <a:ln w="0">
            <a:noFill/>
          </a:ln>
        </p:spPr>
      </p:pic>
      <p:pic>
        <p:nvPicPr>
          <p:cNvPr id="170" name="Oval 7" descr=""/>
          <p:cNvPicPr/>
          <p:nvPr/>
        </p:nvPicPr>
        <p:blipFill>
          <a:blip r:embed="rId4"/>
          <a:stretch/>
        </p:blipFill>
        <p:spPr>
          <a:xfrm>
            <a:off x="2724120" y="1962000"/>
            <a:ext cx="156204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l me before or after school at 267-893-3651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d in a not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 are concerned that it won’t arrive, staple it in your student’s assignment boo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ail me at bswank@cbsd.or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mework Expec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do homework every n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ct expectation is sixty minutes per night during the school we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ignment books checked dai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3:37:19Z</dcterms:created>
  <dc:creator>Lindzeea</dc:creator>
  <dc:description/>
  <dc:language>en-US</dc:language>
  <cp:lastModifiedBy>Brian Swank</cp:lastModifiedBy>
  <dcterms:modified xsi:type="dcterms:W3CDTF">2008-09-08T02:08:00Z</dcterms:modified>
  <cp:revision>8</cp:revision>
  <dc:subject/>
  <dc:title>Wecome to Mr. Swank’s Back to School Night</dc:title>
</cp:coreProperties>
</file>