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08A1-3811-4803-A32C-D8B519105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374B-81BB-416E-9BE8-D557E08C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2A86-5D2E-4FF8-A33B-5462849F1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FA0C-FD16-4065-9DBF-6DD298C3E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DA19-74EC-4CEA-9825-5E1512CA0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F6BC-3595-4D42-86C8-D9A0B86E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C7AD-CA77-45A3-A549-8CCF3B78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776D-3E2D-464A-8415-85CF15EB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5DAC-13AF-4158-B55D-0040555F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1C33-5371-4D39-BB37-7B794C04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EADF-7995-4B87-B32C-E3D7D073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8C7B-96FC-48AD-9856-452EF87F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053B-A217-431A-B28F-B2E73AE0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6A4F-4CF0-49BD-9E28-16735CEE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C2C9-CF38-4FF0-AB1A-14172A6F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257D-F97E-4B7B-8443-EA8608396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B1ED-889E-410D-9504-2F442232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144D-5DEA-40FA-B773-342FFA4E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924E-02F4-442D-A75B-36FB3813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2BA4-8E6A-4CFE-842C-3A3AA4C6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18A0-18FF-4E31-82D7-A94D5031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F7DE-D92A-401B-8C23-3309BC3C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3EC3-F208-492A-954C-FEAD2FDE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2835-9A86-4C8A-9D52-B67E45EF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5476-9612-47F0-BBD4-D04F2E7BF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923E-93C2-44D4-8B42-C159ED246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wankclass.wikispaces.com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mic Sans MS"/>
              </a:rPr>
              <a:t>Welcome to Mr. Swank’s Back to School Night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eptember 8, 200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ding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Surpris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will always know what is expect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brics / Checklists used regular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room Websi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762012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www.swankclass.wikispaces.c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Rectangle 4" descr=""/>
          <p:cNvPicPr/>
          <p:nvPr/>
        </p:nvPicPr>
        <p:blipFill>
          <a:blip r:embed="rId2"/>
          <a:stretch/>
        </p:blipFill>
        <p:spPr>
          <a:xfrm>
            <a:off x="2438280" y="236232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room Websi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pdated regularly by stud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ck back for news, work samples, important dates, photos, and more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havi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room community is based on mutual resp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ECT for ot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ECT for mysel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ECT for our sp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havi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al C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st minus is a warn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inus students write a letter hom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inus is an afternoon detention from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:30-4: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ith 3 pluses they earn a homework pas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 plus is earned by getting a 100% on a quiz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By working towards their go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howing Improv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By going above and beyond what is expected behavioral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eren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ease sign up for a conference before you leave tonigh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letter will be sent home in November confirming your tim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line Safe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ep computers in a common ro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derstand and monitor your child’s Internet u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ve all strange messa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out 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3733920"/>
          </a:xfrm>
          <a:prstGeom prst="rect">
            <a:avLst/>
          </a:prstGeom>
          <a:solidFill>
            <a:srgbClr val="ffef66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year at Mill Cre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year in edu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gree in Elementary Education from Michigan State Universit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ster’s degree in Educational Leadership in progress at Arcadia University (May 2008!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out Me Continued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rried July 14, 200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y weekends spent run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orts Fanatic (Go Spartans!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4" descr="blart012"/>
          <p:cNvPicPr/>
          <p:nvPr/>
        </p:nvPicPr>
        <p:blipFill>
          <a:blip r:embed="rId1"/>
          <a:stretch/>
        </p:blipFill>
        <p:spPr>
          <a:xfrm>
            <a:off x="3505320" y="3651120"/>
            <a:ext cx="2523960" cy="1689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Lehigh Valley Marathon Relay 003"/>
          <p:cNvPicPr/>
          <p:nvPr/>
        </p:nvPicPr>
        <p:blipFill>
          <a:blip r:embed="rId2"/>
          <a:stretch/>
        </p:blipFill>
        <p:spPr>
          <a:xfrm>
            <a:off x="835200" y="3651120"/>
            <a:ext cx="1457280" cy="1689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001"/>
          <p:cNvPicPr/>
          <p:nvPr/>
        </p:nvPicPr>
        <p:blipFill>
          <a:blip r:embed="rId3"/>
          <a:stretch/>
        </p:blipFill>
        <p:spPr>
          <a:xfrm>
            <a:off x="7004160" y="3730680"/>
            <a:ext cx="115884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pecial Events in Sixth Gra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5053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ollution Trip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eptember 18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opes Cours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eptember 24 and 25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alloween Howl: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October 27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sian Festival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Janu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Grade Assessment: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ebruary 5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SSA Testing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rch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uddy Cla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wice a Mon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pes Course Tri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s should dress for the weather.  We will go even if it is rain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ease check the Mill Creek Hot Line,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267-893-360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nd select option 6 for updated new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ease send a lunch and a snac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pes Course Trip Continu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od behavior will be stress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off and pick up will be as norma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opes Course Trip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inu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6" descr="MVC-010S"/>
          <p:cNvPicPr/>
          <p:nvPr/>
        </p:nvPicPr>
        <p:blipFill>
          <a:blip r:embed="rId1"/>
          <a:stretch/>
        </p:blipFill>
        <p:spPr>
          <a:xfrm>
            <a:off x="603360" y="1974960"/>
            <a:ext cx="3633840" cy="2835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MVC-014S"/>
          <p:cNvPicPr/>
          <p:nvPr/>
        </p:nvPicPr>
        <p:blipFill>
          <a:blip r:embed="rId2"/>
          <a:stretch/>
        </p:blipFill>
        <p:spPr>
          <a:xfrm>
            <a:off x="4565520" y="3273480"/>
            <a:ext cx="3902040" cy="2755800"/>
          </a:xfrm>
          <a:prstGeom prst="rect">
            <a:avLst/>
          </a:prstGeom>
          <a:ln w="0">
            <a:noFill/>
          </a:ln>
        </p:spPr>
      </p:pic>
      <p:pic>
        <p:nvPicPr>
          <p:cNvPr id="169" name="Oval 6" descr=""/>
          <p:cNvPicPr/>
          <p:nvPr/>
        </p:nvPicPr>
        <p:blipFill>
          <a:blip r:embed="rId3"/>
          <a:stretch/>
        </p:blipFill>
        <p:spPr>
          <a:xfrm>
            <a:off x="6918480" y="4937040"/>
            <a:ext cx="1560240" cy="1103400"/>
          </a:xfrm>
          <a:prstGeom prst="rect">
            <a:avLst/>
          </a:prstGeom>
          <a:ln w="0">
            <a:noFill/>
          </a:ln>
        </p:spPr>
      </p:pic>
      <p:pic>
        <p:nvPicPr>
          <p:cNvPr id="170" name="Oval 7" descr=""/>
          <p:cNvPicPr/>
          <p:nvPr/>
        </p:nvPicPr>
        <p:blipFill>
          <a:blip r:embed="rId4"/>
          <a:stretch/>
        </p:blipFill>
        <p:spPr>
          <a:xfrm>
            <a:off x="2724120" y="1962000"/>
            <a:ext cx="1562040" cy="11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l me before or after school at 267-893-3651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nd in a not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you are concerned that it won’t arrive, staple it in your student’s assignment boo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ail me at bswank@cbsd.or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mework Expec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st do homework every nig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trict expectation is sixty minutes per night during the school we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ignment books checked dai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3:37:19Z</dcterms:created>
  <dc:creator>Lindzeea</dc:creator>
  <dc:description/>
  <dc:language>en-US</dc:language>
  <cp:lastModifiedBy>Brian Swank</cp:lastModifiedBy>
  <dcterms:modified xsi:type="dcterms:W3CDTF">2008-09-08T02:08:00Z</dcterms:modified>
  <cp:revision>8</cp:revision>
  <dc:subject/>
  <dc:title>Wecome to Mr. Swank’s Back to School Night</dc:title>
</cp:coreProperties>
</file>