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8AE-2071-4E0C-BA52-A8546C46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E55-0311-4F4C-9C3C-11FAFD5A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1FC-32A5-49A7-B733-DD935DA7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E1B-8FF4-43B0-AA5C-BC0FE027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9BDD-DDA9-4541-B777-8EFEFE25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546D-7B1E-4D3B-8F0F-1EA262E9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4695-B31C-4FD8-9537-0DD89A9F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80EA-1565-4427-AF5D-AF398D36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E3A1-158F-49E2-885A-FF2ECB09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5857-F3EA-454B-9A8A-0E23D038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FA69-F3D2-485E-A5ED-05D33E9C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D15-DD23-4913-85D5-8B6E3A9D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4CE4-C3B6-4E9A-A20C-2F1455A8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EE36-1ECA-4FAA-B5D2-BA69A4C3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45D0-D3C0-43E9-B256-F4B684F7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B03C-FF85-4D6A-874E-1A83D255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E71C-8D94-45DA-B509-D3805694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51F-808F-472D-AA01-4046B434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D05-0B7A-4EFD-A3CD-464BD442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22A-5EC8-458D-920F-13E3A320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F82-E337-48DF-BFEF-6434966C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EC7-DA1F-45FA-B918-2B5625D6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98C-7CE2-4100-A6F8-C5508F27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384-225C-482C-89C0-BD892D24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B0A4-C060-4863-B08E-B6375E9A7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578F-3705-4133-B2B1-F2015E703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wankclass.wikispace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Welcome to Mr. Swank’s Back to School Night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eptember 8, 200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ding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urpris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will always know what is expect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brics / Checklists used regular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room Webs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62012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swankclass.wikispaces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Rectangle 4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room Webs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dated regularly by stud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 back for news, work samples, important dates, photos, and mor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room community is based on mutual 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for ot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for my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for our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 C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st minus is a war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nus students write a letter hom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nus is an afternoon detention from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:30-4: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ith 3 pluses they earn a homework pa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 plus is earned by getting a 100% on a qui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y working towards their 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howing Improv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y going above and beyond what is expected behavior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sign up for a conference before you leave tonigh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etter will be sent home in November confirming your ti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line Safe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computers in a common 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stand and monitor your child’s Internet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ve all strange mess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733920"/>
          </a:xfrm>
          <a:prstGeom prst="rect">
            <a:avLst/>
          </a:prstGeom>
          <a:solidFill>
            <a:srgbClr val="ffef66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year at Mill Cr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year in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gree in Elementary Education from Michigan State Univers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ter’s degree in Educational Leadership in progress at Arcadia University (May 2008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out Me Continued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ried July 14, 200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weekends spent ru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orts Fanatic (Go Spartans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blart012"/>
          <p:cNvPicPr/>
          <p:nvPr/>
        </p:nvPicPr>
        <p:blipFill>
          <a:blip r:embed="rId1"/>
          <a:stretch/>
        </p:blipFill>
        <p:spPr>
          <a:xfrm>
            <a:off x="3505320" y="3651120"/>
            <a:ext cx="2523960" cy="1689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Lehigh Valley Marathon Relay 003"/>
          <p:cNvPicPr/>
          <p:nvPr/>
        </p:nvPicPr>
        <p:blipFill>
          <a:blip r:embed="rId2"/>
          <a:stretch/>
        </p:blipFill>
        <p:spPr>
          <a:xfrm>
            <a:off x="835200" y="3651120"/>
            <a:ext cx="1457280" cy="1689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001"/>
          <p:cNvPicPr/>
          <p:nvPr/>
        </p:nvPicPr>
        <p:blipFill>
          <a:blip r:embed="rId3"/>
          <a:stretch/>
        </p:blipFill>
        <p:spPr>
          <a:xfrm>
            <a:off x="7004160" y="3730680"/>
            <a:ext cx="11588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 Events in Sixth Gra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5053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llution Trip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ptember 18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pes Cours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ptember 24 and 25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alloween Howl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ctober 27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ian Festiv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Janu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Grade Assessment: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bruary 5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SA Test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rc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uddy Cla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wice a Mon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pes Course Tri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should dress for the weather.  We will go even if it is rain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check the Mill Creek Hot Line,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67-893-360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select option 6 for updated new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send a lunch and a sna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pes Course Trip Continu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od behavior will be stress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off and pick up will be as norm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pes Course Tri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6" descr="MVC-010S"/>
          <p:cNvPicPr/>
          <p:nvPr/>
        </p:nvPicPr>
        <p:blipFill>
          <a:blip r:embed="rId1"/>
          <a:stretch/>
        </p:blipFill>
        <p:spPr>
          <a:xfrm>
            <a:off x="603360" y="1974960"/>
            <a:ext cx="3633840" cy="2835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VC-014S"/>
          <p:cNvPicPr/>
          <p:nvPr/>
        </p:nvPicPr>
        <p:blipFill>
          <a:blip r:embed="rId2"/>
          <a:stretch/>
        </p:blipFill>
        <p:spPr>
          <a:xfrm>
            <a:off x="4565520" y="3273480"/>
            <a:ext cx="3902040" cy="2755800"/>
          </a:xfrm>
          <a:prstGeom prst="rect">
            <a:avLst/>
          </a:prstGeom>
          <a:ln w="0">
            <a:noFill/>
          </a:ln>
        </p:spPr>
      </p:pic>
      <p:pic>
        <p:nvPicPr>
          <p:cNvPr id="169" name="Oval 6" descr=""/>
          <p:cNvPicPr/>
          <p:nvPr/>
        </p:nvPicPr>
        <p:blipFill>
          <a:blip r:embed="rId3"/>
          <a:stretch/>
        </p:blipFill>
        <p:spPr>
          <a:xfrm>
            <a:off x="6918480" y="4937040"/>
            <a:ext cx="1560240" cy="1103400"/>
          </a:xfrm>
          <a:prstGeom prst="rect">
            <a:avLst/>
          </a:prstGeom>
          <a:ln w="0">
            <a:noFill/>
          </a:ln>
        </p:spPr>
      </p:pic>
      <p:pic>
        <p:nvPicPr>
          <p:cNvPr id="170" name="Oval 7" descr=""/>
          <p:cNvPicPr/>
          <p:nvPr/>
        </p:nvPicPr>
        <p:blipFill>
          <a:blip r:embed="rId4"/>
          <a:stretch/>
        </p:blipFill>
        <p:spPr>
          <a:xfrm>
            <a:off x="2724120" y="1962000"/>
            <a:ext cx="156204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l me before or after school at 267-893-3651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d in a not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 are concerned that it won’t arrive, staple it in your student’s assignment boo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ail me at bswank@cbsd.or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 Expec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do homework every n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ct expectation is sixty minutes per night during the school w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ignment books checked dai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3:37:19Z</dcterms:created>
  <dc:creator>Lindzeea</dc:creator>
  <dc:description/>
  <dc:language>en-US</dc:language>
  <cp:lastModifiedBy>Brian Swank</cp:lastModifiedBy>
  <dcterms:modified xsi:type="dcterms:W3CDTF">2008-09-08T02:08:00Z</dcterms:modified>
  <cp:revision>8</cp:revision>
  <dc:subject/>
  <dc:title>Wecome to Mr. Swank’s Back to School Night</dc:title>
</cp:coreProperties>
</file>