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32A-E042-47FF-B344-3E7F384A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CEB-F53C-4106-8EF6-D8473DF5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976-6957-44A2-87CD-BBA48E3A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499-0C00-438E-BF4A-86E1C312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950-BA3C-40FA-AE41-0BFBCAB1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7F05-A287-47F4-92CA-7E8D08FC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92CB-3E4F-430A-8B82-D9CC16F5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15B-7C85-4FFA-950D-56FBBF51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ADCF-1A16-4B75-A3A7-DEEAF5F0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35DD-67F6-4DFF-93F0-1048725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1CC7-C488-4B03-8D79-EF28044F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FDA-0F14-47B4-8433-7F559CE7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898C-60CE-46CF-8D38-12FE66C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EB6F-1A83-4C34-9A7A-952F34F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2735-E2C5-4635-B53E-FE5017B7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D823-77BB-4830-9A3A-32FB8594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5098-DCFE-49B5-A90B-006A1DC8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6D6-5F7B-4736-BF25-876A2D1B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FDC-3D42-4D3C-AF4F-EF18F58F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441-31BC-4A4A-BD71-D889C9C2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251-6E32-4AC4-901E-3771FF64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40A-147E-42E0-BB6B-DE7732B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7B1-F0ED-473B-8B4D-8AD47827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C36-CA64-41BC-9EDF-FC8F8557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E8B9-CDE7-40A9-9586-D3671752F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AA83-A9AA-4876-8F82-895DD1ADD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wankclass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Welcome to Mr. Swank’s Back to School Night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eptember 8, 20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d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urpris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ill always know what is expec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brics / Checklists used regul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62012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wankclass.wikispaces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Rectangle 4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dated regularly by stud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 back for news, work samples, important dates, photos, and mor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room community is based on mutual 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my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our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st minus is a w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us students write a letter ho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us is an afternoon detention from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:30-4: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ith 3 pluses they earn a homework p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 plus is earned by getting a 100% on a qui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y working towards their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howing Improv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y going above and beyond what is expected behavior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sign up for a conference before you leave ton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etter will be sent home in November confirming your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line Safe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computers in a common 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 and monitor your child’s Internet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e all strange mess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solidFill>
            <a:srgbClr val="ffef66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year at Mill Cr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year in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gree in Elementary Education from Michigan State Univers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’s degree in Educational Leadership in progress at Arcadia University (May 2008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 Continued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ried July 14,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weekends spent r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rts Fanatic (Go Spartan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blart012"/>
          <p:cNvPicPr/>
          <p:nvPr/>
        </p:nvPicPr>
        <p:blipFill>
          <a:blip r:embed="rId1"/>
          <a:stretch/>
        </p:blipFill>
        <p:spPr>
          <a:xfrm>
            <a:off x="3505320" y="3651120"/>
            <a:ext cx="2523960" cy="1689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Lehigh Valley Marathon Relay 003"/>
          <p:cNvPicPr/>
          <p:nvPr/>
        </p:nvPicPr>
        <p:blipFill>
          <a:blip r:embed="rId2"/>
          <a:stretch/>
        </p:blipFill>
        <p:spPr>
          <a:xfrm>
            <a:off x="835200" y="3651120"/>
            <a:ext cx="1457280" cy="1689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001"/>
          <p:cNvPicPr/>
          <p:nvPr/>
        </p:nvPicPr>
        <p:blipFill>
          <a:blip r:embed="rId3"/>
          <a:stretch/>
        </p:blipFill>
        <p:spPr>
          <a:xfrm>
            <a:off x="7004160" y="3730680"/>
            <a:ext cx="11588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Events in Sixth Gra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lution Trip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ptember 18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pes Cours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ptember 24 and 25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lloween How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ctober 27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ian Festiv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Janu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Grade Assessment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bruary 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Test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ddy Cla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wice a Mon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pes Course Tr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should dress for the weather.  We will go even if it is rai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check the Mill Creek Hot Line,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67-893-36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select option 6 for updated new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send a lunch and a sn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pes Course Trip 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behavior will be stress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off and pick up will be as norm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pes Course Tri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MVC-010S"/>
          <p:cNvPicPr/>
          <p:nvPr/>
        </p:nvPicPr>
        <p:blipFill>
          <a:blip r:embed="rId1"/>
          <a:stretch/>
        </p:blipFill>
        <p:spPr>
          <a:xfrm>
            <a:off x="603360" y="1974960"/>
            <a:ext cx="3633840" cy="283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14S"/>
          <p:cNvPicPr/>
          <p:nvPr/>
        </p:nvPicPr>
        <p:blipFill>
          <a:blip r:embed="rId2"/>
          <a:stretch/>
        </p:blipFill>
        <p:spPr>
          <a:xfrm>
            <a:off x="4565520" y="3273480"/>
            <a:ext cx="3902040" cy="2755800"/>
          </a:xfrm>
          <a:prstGeom prst="rect">
            <a:avLst/>
          </a:prstGeom>
          <a:ln w="0">
            <a:noFill/>
          </a:ln>
        </p:spPr>
      </p:pic>
      <p:pic>
        <p:nvPicPr>
          <p:cNvPr id="169" name="Oval 6" descr=""/>
          <p:cNvPicPr/>
          <p:nvPr/>
        </p:nvPicPr>
        <p:blipFill>
          <a:blip r:embed="rId3"/>
          <a:stretch/>
        </p:blipFill>
        <p:spPr>
          <a:xfrm>
            <a:off x="6918480" y="4937040"/>
            <a:ext cx="1560240" cy="1103400"/>
          </a:xfrm>
          <a:prstGeom prst="rect">
            <a:avLst/>
          </a:prstGeom>
          <a:ln w="0">
            <a:noFill/>
          </a:ln>
        </p:spPr>
      </p:pic>
      <p:pic>
        <p:nvPicPr>
          <p:cNvPr id="170" name="Oval 7" descr=""/>
          <p:cNvPicPr/>
          <p:nvPr/>
        </p:nvPicPr>
        <p:blipFill>
          <a:blip r:embed="rId4"/>
          <a:stretch/>
        </p:blipFill>
        <p:spPr>
          <a:xfrm>
            <a:off x="2724120" y="1962000"/>
            <a:ext cx="156204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l me before or after school at 267-893-3651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d in a no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are concerned that it won’t arrive, staple it in your student’s assignment boo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ail me at bswank@cbsd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Expec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do homework every n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ct expectation is sixty minutes per night during the school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gnment books checked da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3:37:19Z</dcterms:created>
  <dc:creator>Lindzeea</dc:creator>
  <dc:description/>
  <dc:language>en-US</dc:language>
  <cp:lastModifiedBy>Brian Swank</cp:lastModifiedBy>
  <dcterms:modified xsi:type="dcterms:W3CDTF">2008-09-08T02:08:00Z</dcterms:modified>
  <cp:revision>8</cp:revision>
  <dc:subject/>
  <dc:title>Wecome to Mr. Swank’s Back to School Night</dc:title>
</cp:coreProperties>
</file>